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2707-7ACB-4274-88F0-D13973E0F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4DE2-7243-4DCA-951A-FB609290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9A674-A31D-4E93-A6AC-C1770FC2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D400B-5D4C-40B6-A895-68F1B61D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D1B08-C472-428D-8DDF-D97C9AC9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B45E6-14BF-4512-A04F-0157159F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EB54B-4391-4EA6-8C03-214F158B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396E3-BCB5-4A6F-89F8-91E691AE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C0B1B-6761-4CA1-984C-7A8C3C78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420857-5C69-4F45-B0CE-D1D7806D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272E3-EF52-4BFD-A243-750E88BB4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4125B-6DF9-4789-AF12-14EDF9CAF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A784-17AF-433F-9C11-05155A484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C76E4-46C8-4B59-BB81-C4D164AC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2C5FF-336F-434F-9DDE-34A9305D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4624C-D0A6-4A84-8D0D-72BDF7A2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46DD1-FA51-45F8-AF16-CF221C4E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A387CA-B1C9-4F77-9CDB-13753E2F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7926D-B294-46A6-A8B6-158A5C06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88B31-F4EF-427F-AEB5-45CEFCEC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924CF-A7AF-4628-85E8-C1DC697A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F46E5-2187-4F4B-8DCA-DABF068E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07225-1FFC-455F-BD22-15B16F5FE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821C-6E2D-4B02-A0AB-1E3B0E71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C6ADF-6B6A-42C8-813A-BB24EEB2A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0EB94-BAD4-4E77-9F05-2D19ECE27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DC825-F1C6-4867-B1C5-ED91C382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BBDE9-06E7-4EFE-93FF-209E7163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0732B-679F-41D2-B4F3-33487680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3D560-9390-4C6E-9ABD-51AA1340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EC0B5-36C9-4430-BC37-E0E0FAA1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A832C-6B3D-4AA9-A177-E36616FE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40032-29F1-42CF-A61F-BDB42BD7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89350-0307-4B66-842F-7F42066C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C3E4-89EA-4EE1-A204-26DF376BE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9F816-687F-49F7-BD54-78670237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5A3C4-DD5A-43C6-91B9-EB14A472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783F4-39C0-400B-A0C9-5A7F06493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5AF00-35A2-4961-91E8-9BC723C3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22495B-9D70-4DC1-8B0B-B6534D8B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574E7-9674-40AA-B9C3-E82E2C9F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426713-CFFC-4F0F-B936-EFD95ABB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F3837E-25A4-4A32-B725-9BB2A8E5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F7710C-6E76-4933-BAE0-DFE13979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CA32D-D362-4165-AACA-275EE8D9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0151-C3F0-4DD2-AD53-17C0A54D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E7ABE-53ED-4E1F-B6ED-18721C87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D2E06-ED30-42E3-B76F-CD1DCBB2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BE846-2C86-45CB-B566-36384482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EC227-2394-4BDF-95C5-BB178868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DF4032-1B4F-4F8B-87B8-50A79BB45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6F18-32CD-4788-BF64-8A33FDFA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90F5-7623-4919-9092-5FE31C8C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4B0B-2A29-4EA5-ABD4-0886E776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5356-0386-48B0-BD87-429449EB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88C0-09D0-4FDB-AB48-9F392413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626B-28BD-4BA5-A138-130523F8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5C0D-561C-445A-85F4-96AD8C80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9EF8-4FDD-4CDD-A79B-1C1090A4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0EA6-05D3-49CF-BA71-F8DFC3C5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CB6A-E5EF-47FA-9A3F-16D5CF41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051E-1E6B-4A09-86F4-60E46484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CE05A-C4B3-499E-BF80-62F063F4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9E569-678D-4739-A150-5CBE25B0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9A99B-9C75-4AD7-9C2B-E78636BA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A3FB2-FC66-4601-A26A-D39ECF0B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245E1-06E3-4DD1-BF5F-9B7AE196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A123-5006-42DE-B0A6-29BA832D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B4735-7369-42B6-BE2C-8B1380C3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360DD-DF02-4AFC-AD1F-EF480629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720F3-D6B4-4A8E-B9AF-E20539AC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BFCEE-AF54-4512-B9BF-215A5FCF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A8D21-5431-40F2-BF7D-2C445CC4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FB464-9ACC-4428-878C-BBECD06A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EBBB6-9EE6-4FD8-B2EB-27F4EB0D3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39E7E-1E5C-4082-8035-18E2B30F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9F60C-22A9-4F24-AA88-93487583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7B191-974D-46B2-9A35-68F2626B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3935-EA57-4CD4-9144-9E7E2734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262D2-0900-4562-BD6C-606F7312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6A6BB-B89F-4052-A1DB-7EE865EC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8E8A4-5DF9-45A6-964B-97998E29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DFF84-F58A-429C-A998-3FAE31E6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95C0F-DFDB-43C7-91F2-729BD279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629C5-09FF-40EB-B36F-E342F9ED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0F164-D739-4AD3-A9B5-0332E6C3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038AF-B986-4495-A5B7-3EF625AF6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87510-FA54-4FCE-98DB-467C1F3D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17A96-2D41-46E1-AE41-CC1B56993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793B-EEC4-4647-8FD4-65E09006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03582-A591-4CE6-8918-ABF280A1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D5CDF-B2DA-48F6-8292-E9FA6D19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7F644-9658-414F-A5B0-B29F7B68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4AFE2-D860-457D-AE9B-076ECC22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8FF1D-1ADC-4A47-A757-EF20A757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A55CF-0B4A-4B82-A1B0-9FA9CA59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06F47-CF74-4A9A-A55A-51F2A7FB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02FBD-8303-451D-943E-8255F17F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6A452-C333-436D-B9BE-4EDC3BC9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201A8-D6BF-4D81-A71C-CFEC9093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788B-EDC4-4789-B804-275ECD89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6A36B-3303-4B05-9F4A-2301BB34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94587-553B-45C7-8A32-7169DF1F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88C1E-B581-4B3B-ACB6-ED601B92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B7ECD-2EB6-447B-9C04-872A6C32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EB967-4AA3-4F14-9D3A-12016CC6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2DA73-06D9-4124-8C1C-369DF756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EDA5D-AE79-43C4-A7EC-C6953278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25F04-AA2F-4596-9E3F-0C202DC4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7D873-7C78-427F-A8E1-5539435E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98AB3-964B-43C5-8656-90F5C981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1EA5-C5B5-41B5-B653-C2782D51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0C0F4-6AED-45AA-ABEF-FDEBC4FF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99892-D8A2-4A0B-92B9-5C404D27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4937B-16CD-4FFC-89C6-44247324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78531-56C7-48E8-ABD8-2EE2E14F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A8316-4A97-4820-B136-89655368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D4D90-416A-4D9B-ABF9-BF6C0440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2B75D-C0FA-414C-94D4-0A33E5CA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2BA8C-F612-4926-A697-2FE2F924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4252C-0549-4BF3-807E-2C27F021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C3B7A-A61E-4EC8-B2D4-3B7F4AD2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07B5-0CA9-445A-81DA-1E798F9B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8FD85-E4DA-4D20-8D88-7CC45BD0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DCE59-71D5-4DBA-8675-775DD2FC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093CA-768B-472C-AB4C-4ABF32C2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228F3-BDCC-4FD7-A5A6-E9F7566A4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C7E9F-583C-482F-85F6-308C3AB25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6A12B-2115-48FD-A72B-6293A0650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59695-1A8B-4979-9855-95CEA1CA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BAAA9-C6F3-46F2-A09D-8E2C8808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8333C-45D7-4363-A954-C7E1A791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64E80-053E-4E58-A924-4DA67D34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F33C-204B-4312-9B1A-0EDCA8FC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3C986-F04E-4D46-9764-A7EBD1F0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1D9BD-5E33-41F9-8794-A59CC862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C8818-9B82-40CD-87F2-697EA899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71C05-F1EB-470D-BE79-29F0AB9C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B5422-5FC2-4BD5-AABB-16413250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AE9F6-6464-476E-A816-0ACBEA264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01C99-4CA9-411C-978F-EB1100F7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0E7F6-70FA-4F45-A81D-1D120002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30514-7D4A-4643-B763-4AED3911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4C417-4AB4-40D4-B302-CD8EB838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直接连接符 6" descr=""/>
          <p:cNvPicPr/>
          <p:nvPr/>
        </p:nvPicPr>
        <p:blipFill>
          <a:blip r:embed="rId2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885E-078C-41BB-86D9-13FBABB9E1E2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E997-085F-484F-B9C7-4A95743F125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6" name="直接连接符 8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7" name="直接连接符 11" descr=""/>
          <p:cNvPicPr/>
          <p:nvPr/>
        </p:nvPicPr>
        <p:blipFill>
          <a:blip r:embed="rId4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  <p:sp>
        <p:nvSpPr>
          <p:cNvPr id="8" name="Text Box 25"/>
          <p:cNvSpPr/>
          <p:nvPr/>
        </p:nvSpPr>
        <p:spPr>
          <a:xfrm>
            <a:off x="457200" y="228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深职院西门子培训中心多媒体系列光盘之二：触摸屏技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27"/>
          <p:cNvSpPr/>
          <p:nvPr/>
        </p:nvSpPr>
        <p:spPr>
          <a:xfrm>
            <a:off x="2362320" y="632448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主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Q:5413519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BBDC-DCC2-4245-B968-54CC192FC838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8350-3BBE-4BFA-9F07-E9138498004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9882-70FC-4234-87C3-69301E940506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B704-7B06-4E88-B329-9AD95491FB1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1511-9542-4F08-86B9-0F4DF17E1D81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3403-0819-41F9-9D03-6173D68F978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直接连接符 14" descr=""/>
          <p:cNvPicPr/>
          <p:nvPr/>
        </p:nvPicPr>
        <p:blipFill>
          <a:blip r:embed="rId2"/>
          <a:stretch/>
        </p:blipFill>
        <p:spPr>
          <a:xfrm>
            <a:off x="514440" y="5345280"/>
            <a:ext cx="8629560" cy="279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448F-6C20-4F7A-AB83-2E6421DF7FA4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7C52-3904-4CAB-B544-2A4168AAD63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BA83-B053-4563-9724-9551F9404D79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1820-B34F-4DCE-A0D5-E0A236A6D1F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直接连接符 14" descr=""/>
          <p:cNvPicPr/>
          <p:nvPr/>
        </p:nvPicPr>
        <p:blipFill>
          <a:blip r:embed="rId2"/>
          <a:stretch/>
        </p:blipFill>
        <p:spPr>
          <a:xfrm>
            <a:off x="514440" y="3440160"/>
            <a:ext cx="8629560" cy="2793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29EE-67C6-419B-9D98-C2F472109C35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4571-ABD9-4C51-A34E-25D64874C0D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D10E-27B3-420F-B622-E84AF07EA7E5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1CCB-DA09-4B00-B805-D96D1BD10BC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直接连接符 14" descr=""/>
          <p:cNvPicPr/>
          <p:nvPr/>
        </p:nvPicPr>
        <p:blipFill>
          <a:blip r:embed="rId2"/>
          <a:stretch/>
        </p:blipFill>
        <p:spPr>
          <a:xfrm>
            <a:off x="514440" y="6014880"/>
            <a:ext cx="8629560" cy="2797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35A1-4877-45D9-94AB-24D9671BCE48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587B-0A8C-4196-8BBA-B1AA285B958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B82A-658B-4A76-A315-21E843EE825D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3E2F-64FF-429E-A57D-05590639AD5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8642-A123-4223-B1BA-91F6E8CFE6FB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0E43-10F4-4947-8214-18731E6959F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直接连接符 14" descr=""/>
          <p:cNvPicPr/>
          <p:nvPr/>
        </p:nvPicPr>
        <p:blipFill>
          <a:blip r:embed="rId2"/>
          <a:stretch/>
        </p:blipFill>
        <p:spPr>
          <a:xfrm>
            <a:off x="514440" y="5843520"/>
            <a:ext cx="8629560" cy="28116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909B-3A9F-4827-B578-31746AD1803A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4E2D-4B18-4E54-9936-B0C794695BA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7"/>
          <p:cNvSpPr/>
          <p:nvPr/>
        </p:nvSpPr>
        <p:spPr>
          <a:xfrm>
            <a:off x="1028880" y="274320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宋体"/>
              </a:rPr>
              <a:t>西门子触摸屏应用技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2819520" cy="22510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2819160" cy="2417760"/>
          </a:xfrm>
          <a:prstGeom prst="rect">
            <a:avLst/>
          </a:prstGeom>
          <a:ln w="0">
            <a:noFill/>
          </a:ln>
        </p:spPr>
      </p:pic>
      <p:sp>
        <p:nvSpPr>
          <p:cNvPr id="567" name="Rectangle 4"/>
          <p:cNvSpPr/>
          <p:nvPr/>
        </p:nvSpPr>
        <p:spPr>
          <a:xfrm>
            <a:off x="1676880" y="419040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178 mic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5410800" y="42663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-TP178 mic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4"/>
          <p:cNvSpPr/>
          <p:nvPr/>
        </p:nvSpPr>
        <p:spPr>
          <a:xfrm>
            <a:off x="533520" y="1141920"/>
            <a:ext cx="7924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P0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P170 micr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P177 micr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-TP178 micr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都是专门用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7-2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7i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L-L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种蓝色色调，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F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背光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0×24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像素，通信接口均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-48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支持的图形对象有位图、图标或背景图片，有软件实时时钟，可以使用的动态对象为棒图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2"/>
          <p:cNvSpPr/>
          <p:nvPr/>
        </p:nvSpPr>
        <p:spPr>
          <a:xfrm>
            <a:off x="1031040" y="7466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宋体"/>
              </a:rPr>
              <a:t>、触摸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3" descr="tp270_6"/>
          <p:cNvPicPr/>
          <p:nvPr/>
        </p:nvPicPr>
        <p:blipFill>
          <a:blip r:embed="rId1"/>
          <a:stretch/>
        </p:blipFill>
        <p:spPr>
          <a:xfrm>
            <a:off x="5029200" y="1752480"/>
            <a:ext cx="3124080" cy="252900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17"/>
          <p:cNvSpPr/>
          <p:nvPr/>
        </p:nvSpPr>
        <p:spPr>
          <a:xfrm>
            <a:off x="6019920" y="4495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2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18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2514600" cy="188568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19"/>
          <p:cNvSpPr/>
          <p:nvPr/>
        </p:nvSpPr>
        <p:spPr>
          <a:xfrm>
            <a:off x="1600200" y="4114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17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1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2"/>
          <p:cNvSpPr/>
          <p:nvPr/>
        </p:nvSpPr>
        <p:spPr>
          <a:xfrm>
            <a:off x="380880" y="198000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P170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是用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系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简单任务的经济型触摸屏，采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7i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蓝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N-LCD,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级灰度，支持位图、图标和背景图画，动态对象有棒图，有一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-2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接口和一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-422/48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接口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P170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采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7i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蓝色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N-L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-2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接口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-422/48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接口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卡插槽，支持位图、图标、背景图画和矢量图形对象，动态对象有图表、柱形图和隐藏按钮，有配方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P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采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7i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4in 25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触摸屏，通过改进的显示技术，提高了亮度。可以通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卡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可选的以太网接口备份或恢复。可以远程下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上载组态和硬件升级。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-2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接口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-422/48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接口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卡插槽，可以通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-2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串口和以太网接口驱动打印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2"/>
          <p:cNvSpPr/>
          <p:nvPr/>
        </p:nvSpPr>
        <p:spPr>
          <a:xfrm>
            <a:off x="1285200" y="822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宋体"/>
              </a:rPr>
              <a:t>、操作员面板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" descr="1011"/>
          <p:cNvPicPr/>
          <p:nvPr/>
        </p:nvPicPr>
        <p:blipFill>
          <a:blip r:embed="rId1"/>
          <a:stretch/>
        </p:blipFill>
        <p:spPr>
          <a:xfrm>
            <a:off x="762120" y="1447920"/>
            <a:ext cx="3124080" cy="166824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4"/>
          <p:cNvSpPr/>
          <p:nvPr/>
        </p:nvSpPr>
        <p:spPr>
          <a:xfrm>
            <a:off x="1828800" y="304740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5" descr="1012"/>
          <p:cNvPicPr/>
          <p:nvPr/>
        </p:nvPicPr>
        <p:blipFill>
          <a:blip r:embed="rId2"/>
          <a:stretch/>
        </p:blipFill>
        <p:spPr>
          <a:xfrm>
            <a:off x="5715000" y="1295280"/>
            <a:ext cx="1454040" cy="1835280"/>
          </a:xfrm>
          <a:prstGeom prst="rect">
            <a:avLst/>
          </a:prstGeom>
          <a:ln w="0">
            <a:noFill/>
          </a:ln>
        </p:spPr>
      </p:pic>
      <p:sp>
        <p:nvSpPr>
          <p:cNvPr id="580" name="Rectangle 6"/>
          <p:cNvSpPr/>
          <p:nvPr/>
        </p:nvSpPr>
        <p:spPr>
          <a:xfrm>
            <a:off x="6095880" y="31233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7" descr="1013"/>
          <p:cNvPicPr/>
          <p:nvPr/>
        </p:nvPicPr>
        <p:blipFill>
          <a:blip r:embed="rId3"/>
          <a:stretch/>
        </p:blipFill>
        <p:spPr>
          <a:xfrm>
            <a:off x="1143000" y="3657600"/>
            <a:ext cx="2514600" cy="1860480"/>
          </a:xfrm>
          <a:prstGeom prst="rect">
            <a:avLst/>
          </a:prstGeom>
          <a:ln w="0">
            <a:noFill/>
          </a:ln>
        </p:spPr>
      </p:pic>
      <p:sp>
        <p:nvSpPr>
          <p:cNvPr id="582" name="Rectangle 8"/>
          <p:cNvSpPr/>
          <p:nvPr/>
        </p:nvSpPr>
        <p:spPr>
          <a:xfrm>
            <a:off x="1828800" y="54856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9" descr="1015"/>
          <p:cNvPicPr/>
          <p:nvPr/>
        </p:nvPicPr>
        <p:blipFill>
          <a:blip r:embed="rId4"/>
          <a:stretch/>
        </p:blipFill>
        <p:spPr>
          <a:xfrm>
            <a:off x="5334120" y="3505320"/>
            <a:ext cx="2514600" cy="175248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10"/>
          <p:cNvSpPr/>
          <p:nvPr/>
        </p:nvSpPr>
        <p:spPr>
          <a:xfrm>
            <a:off x="5570640" y="5485680"/>
            <a:ext cx="21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170B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177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2"/>
          <p:cNvSpPr/>
          <p:nvPr/>
        </p:nvSpPr>
        <p:spPr>
          <a:xfrm>
            <a:off x="380880" y="129420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170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见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1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基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C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操作系统，采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0*24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像素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7i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蓝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N-L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功能键，其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有两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-2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接口、一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-422/48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接口和一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卡插槽，可以连接其他品牌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它支持位图、图标、背景图形和矢量图形对象，动态对象有图表、柱形图和隐藏按钮，具有配方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1158120" y="7466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宋体"/>
              </a:rPr>
              <a:t>、移动面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3" descr="未定标题12"/>
          <p:cNvPicPr/>
          <p:nvPr/>
        </p:nvPicPr>
        <p:blipFill>
          <a:blip r:embed="rId1"/>
          <a:stretch/>
        </p:blipFill>
        <p:spPr>
          <a:xfrm>
            <a:off x="2971800" y="762120"/>
            <a:ext cx="4343400" cy="2116080"/>
          </a:xfrm>
          <a:prstGeom prst="rect">
            <a:avLst/>
          </a:prstGeom>
          <a:ln w="0">
            <a:noFill/>
          </a:ln>
        </p:spPr>
      </p:pic>
      <p:sp>
        <p:nvSpPr>
          <p:cNvPr id="588" name="Rectangle 4"/>
          <p:cNvSpPr/>
          <p:nvPr/>
        </p:nvSpPr>
        <p:spPr>
          <a:xfrm>
            <a:off x="4117320" y="289476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Panel 17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457200" y="38556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移动面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Panel 1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是基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C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操作系统的移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M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设备，它有一个串口和一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I/PROFIBUS-D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接口，两个接口都可以用于传送项目，具有棒图、趋势图、调度器、打印、带缓冲的报报警和配方管理功能，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卡备份配方数据和项目。如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所示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Panel 1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移动面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1284840" y="7466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宋体"/>
              </a:rPr>
              <a:t>、多功能面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3" descr="图10-16"/>
          <p:cNvPicPr/>
          <p:nvPr/>
        </p:nvPicPr>
        <p:blipFill>
          <a:blip r:embed="rId1"/>
          <a:stretch/>
        </p:blipFill>
        <p:spPr>
          <a:xfrm>
            <a:off x="5334120" y="914400"/>
            <a:ext cx="2914560" cy="245736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5"/>
          <p:cNvSpPr/>
          <p:nvPr/>
        </p:nvSpPr>
        <p:spPr>
          <a:xfrm>
            <a:off x="609480" y="3826440"/>
            <a:ext cx="769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多功能面板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 Pane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是性能最高的人机界面，高性能、具有开放性和可扩展性是其突出特点。它采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CE V3.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操作系统，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CC flexib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组态，用于高标准的复杂机器的可视化，可以使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色矢量图形显示功能、图形库和动画功能。它有过程值和信息归档功能、曲线图功能和在线语言选择功能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2"/>
          <p:cNvSpPr/>
          <p:nvPr/>
        </p:nvSpPr>
        <p:spPr>
          <a:xfrm>
            <a:off x="457200" y="13410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系列多功能面板有两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-2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接口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-422/48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接口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接口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J4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以太网接口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-48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接口可以使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BUS-D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协议，还可以通过各种通信接口传送组态。而距离较长时可以用调制解调器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ATIC TeleService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通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CC flexib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@rtServic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进行传输。此外它还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卡插槽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卡插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2"/>
          <p:cNvSpPr/>
          <p:nvPr/>
        </p:nvSpPr>
        <p:spPr>
          <a:xfrm>
            <a:off x="973080" y="792720"/>
            <a:ext cx="30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四、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inCC flexible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简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749160" y="1280160"/>
            <a:ext cx="35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1.  ProTool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宋体"/>
              </a:rPr>
              <a:t>与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WinCC flex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4"/>
          <p:cNvSpPr/>
          <p:nvPr/>
        </p:nvSpPr>
        <p:spPr>
          <a:xfrm>
            <a:off x="457200" y="2387160"/>
            <a:ext cx="8229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西门子的人机界面以前使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o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组态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ATIC WinCC flexib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是在被广泛认可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o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组态软件上发展起来的，并且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o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保持了一致性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o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适用于单用户系统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CC flexib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可以满足各种需求，从单用户、多用户到基于网络的工厂自动化控制与监视。大多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ATIC HM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产品可以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o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CC flexib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组态，某些新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M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产品只能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CC flexib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组态。我们可以非常方便地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o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组态的项目移植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CC flexib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4"/>
          <p:cNvSpPr/>
          <p:nvPr/>
        </p:nvSpPr>
        <p:spPr>
          <a:xfrm>
            <a:off x="3150360" y="1977480"/>
            <a:ext cx="365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一、人 机 界 面 概 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二、人机界面的应用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三、西门子人机界面设备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四、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inCC flexible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1366560" y="913680"/>
            <a:ext cx="69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第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讲   西门子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HMI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与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WinCC flexible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介绍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457200" y="1219320"/>
            <a:ext cx="8001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CC flexib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具有开放简易的扩展功能，带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脚本功能，集成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控件，可以将人机界面集成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网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CC flexib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带有丰富的图库，提供了大量的对象供用户使用，其缩放比例和动态性能都是可变的。使用图库中的元件，可以快速方便地生成各种美观的画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713520" y="822960"/>
            <a:ext cx="30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宋体"/>
              </a:rPr>
              <a:t>、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WinCC flexible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宋体"/>
              </a:rPr>
              <a:t>操作界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3" descr=""/>
          <p:cNvPicPr/>
          <p:nvPr/>
        </p:nvPicPr>
        <p:blipFill>
          <a:blip r:embed="rId1"/>
          <a:srcRect l="0" t="0" r="0" b="3773"/>
          <a:stretch/>
        </p:blipFill>
        <p:spPr>
          <a:xfrm>
            <a:off x="1371600" y="1447920"/>
            <a:ext cx="6019920" cy="45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1078200" y="8370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一、人 机 界 面 概 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1869120" y="150876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cc"/>
                </a:solidFill>
                <a:latin typeface="Arial"/>
                <a:ea typeface="宋体"/>
              </a:rPr>
              <a:t>、人机界面的基本概念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1565640" y="2042280"/>
            <a:ext cx="65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人机界面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 Machine Interfac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又称为人机接口，简称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M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6"/>
          <p:cNvSpPr/>
          <p:nvPr/>
        </p:nvSpPr>
        <p:spPr>
          <a:xfrm>
            <a:off x="457200" y="2590920"/>
            <a:ext cx="8077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  <a:ea typeface="宋体"/>
              </a:rPr>
              <a:t>人机界面可以承担下列任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过程可视化。在人机界面上动态显示过程数据（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采集的现场数据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操作员对过程的控制。操作员通过图形界面来控制过程。如操作员可以用触摸屏画面上的输入域来修改系统的参数，或者用画面上的按钮来启动电动机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2"/>
          <p:cNvSpPr/>
          <p:nvPr/>
        </p:nvSpPr>
        <p:spPr>
          <a:xfrm>
            <a:off x="380880" y="190404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显示报警。过程的临界状态会自动触发报警，如当变量超出设定值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记录功能。顺序记录过程值和报警信息，用户可以检索以前的生产数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输出过程值和报警记录。如可以在某一轮班结束时打印输出生产报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过程和设备的参数管理。将过程和设备的参数存储在配方中，可以一次性将这些参数从人机界面下载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以便改变产品的品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2129400" y="7927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二、人机界面的应用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1310400" y="1370880"/>
            <a:ext cx="14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．对监控画面组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5"/>
          <p:cNvSpPr/>
          <p:nvPr/>
        </p:nvSpPr>
        <p:spPr>
          <a:xfrm>
            <a:off x="1401840" y="1904400"/>
            <a:ext cx="17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．人机界面的通信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1401840" y="2513880"/>
            <a:ext cx="17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．编译和下载项目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7"/>
          <p:cNvSpPr/>
          <p:nvPr/>
        </p:nvSpPr>
        <p:spPr>
          <a:xfrm>
            <a:off x="1173240" y="3047400"/>
            <a:ext cx="10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．运行阶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4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624720" cy="3930480"/>
          </a:xfrm>
          <a:prstGeom prst="rect">
            <a:avLst/>
          </a:prstGeom>
          <a:ln w="0">
            <a:noFill/>
          </a:ln>
        </p:spPr>
      </p:pic>
      <p:sp>
        <p:nvSpPr>
          <p:cNvPr id="553" name="Rectangle 5"/>
          <p:cNvSpPr/>
          <p:nvPr/>
        </p:nvSpPr>
        <p:spPr>
          <a:xfrm>
            <a:off x="2457360" y="792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三、西门子人机界面设备简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3"/>
          <p:cNvSpPr/>
          <p:nvPr/>
        </p:nvSpPr>
        <p:spPr>
          <a:xfrm>
            <a:off x="990360" y="1447200"/>
            <a:ext cx="11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．文本显示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4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2819160" cy="24177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5" descr=""/>
          <p:cNvPicPr/>
          <p:nvPr/>
        </p:nvPicPr>
        <p:blipFill>
          <a:blip r:embed="rId2"/>
          <a:stretch/>
        </p:blipFill>
        <p:spPr>
          <a:xfrm>
            <a:off x="4572000" y="2286000"/>
            <a:ext cx="3809880" cy="265896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6"/>
          <p:cNvSpPr/>
          <p:nvPr/>
        </p:nvSpPr>
        <p:spPr>
          <a:xfrm>
            <a:off x="1116360" y="495216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本显示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D200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7"/>
          <p:cNvSpPr/>
          <p:nvPr/>
        </p:nvSpPr>
        <p:spPr>
          <a:xfrm>
            <a:off x="5868000" y="50284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D400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4"/>
          <p:cNvSpPr/>
          <p:nvPr/>
        </p:nvSpPr>
        <p:spPr>
          <a:xfrm>
            <a:off x="380880" y="1522800"/>
            <a:ext cx="8077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200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200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如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所示，它具有标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2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基本操作功能，另外还增加了一些新的功能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200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为用户提供了非常灵活的键盘布置和面板设计功能。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7-2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编程软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7-Micro/WI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来组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400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400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如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所示）是新一代文本显示器，完全支持西门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7-200 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行中文文本显示，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7-200 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通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高速通信，速率可达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7.5kb/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7-Micro/WIN4.0 SP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中文版组态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M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程序存储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无需单独下载，便于维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/>
          <p:cNvSpPr/>
          <p:nvPr/>
        </p:nvSpPr>
        <p:spPr>
          <a:xfrm>
            <a:off x="832680" y="822960"/>
            <a:ext cx="114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宋体"/>
              </a:rPr>
              <a:t>．微型面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3" descr="1006"/>
          <p:cNvPicPr/>
          <p:nvPr/>
        </p:nvPicPr>
        <p:blipFill>
          <a:blip r:embed="rId1"/>
          <a:stretch/>
        </p:blipFill>
        <p:spPr>
          <a:xfrm>
            <a:off x="1066680" y="1752480"/>
            <a:ext cx="2743200" cy="19940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2819520" cy="223200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5"/>
          <p:cNvSpPr/>
          <p:nvPr/>
        </p:nvSpPr>
        <p:spPr>
          <a:xfrm>
            <a:off x="1829160" y="403776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07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5792040" y="411408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170mic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9-03T22:24:36Z</dcterms:created>
  <dc:creator/>
  <dc:description/>
  <dc:language>en-US</dc:language>
  <cp:lastModifiedBy>91290</cp:lastModifiedBy>
  <dcterms:modified xsi:type="dcterms:W3CDTF">2021-09-03T22:31:13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53987548907D4B319C6FDEA1E0863DDC</vt:lpwstr>
  </property>
  <property fmtid="{D5CDD505-2E9C-101B-9397-08002B2CF9AE}" pid="3" name="KSOProductBuildVer">
    <vt:lpwstr>2052-11.1.0.10700</vt:lpwstr>
  </property>
  <property fmtid="{D5CDD505-2E9C-101B-9397-08002B2CF9AE}" pid="4" name="Version">
    <vt:r8>1</vt:r8>
  </property>
</Properties>
</file>