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7738920" y="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iemens Sans Black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304920" y="609480"/>
            <a:ext cx="8458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609480"/>
            <a:ext cx="0" cy="56390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8763120" y="609480"/>
            <a:ext cx="0" cy="56390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7738920" y="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iemens Sans Black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304920" y="609480"/>
            <a:ext cx="8458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>
            <a:off x="304920" y="609480"/>
            <a:ext cx="0" cy="56390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>
            <a:off x="8763120" y="609480"/>
            <a:ext cx="0" cy="56390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6"/>
          <p:cNvSpPr/>
          <p:nvPr/>
        </p:nvSpPr>
        <p:spPr>
          <a:xfrm>
            <a:off x="533520" y="7621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7"/>
          <p:cNvSpPr/>
          <p:nvPr/>
        </p:nvSpPr>
        <p:spPr>
          <a:xfrm>
            <a:off x="533520" y="1523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25"/>
          <p:cNvSpPr/>
          <p:nvPr/>
        </p:nvSpPr>
        <p:spPr>
          <a:xfrm>
            <a:off x="4572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深职院西门子培训中心多媒体系列光盘之二：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"/>
          <p:cNvSpPr/>
          <p:nvPr/>
        </p:nvSpPr>
        <p:spPr>
          <a:xfrm>
            <a:off x="3430440" y="1595880"/>
            <a:ext cx="172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O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域组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二、按钮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三、文本列表和图形列表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四、动画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五、变量指针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六、运行脚本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七、报警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2280600" y="837360"/>
            <a:ext cx="50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讲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inCC flexibl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组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1207440" y="837360"/>
            <a:ext cx="113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态一个脚本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1600200" y="2057400"/>
          <a:ext cx="12952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12952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4"/>
          <p:cNvSpPr/>
          <p:nvPr/>
        </p:nvSpPr>
        <p:spPr>
          <a:xfrm>
            <a:off x="685800" y="2970720"/>
            <a:ext cx="784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组态监视画面，如图所示，在画面中按“计算”按钮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能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计算得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3276360" cy="23907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6"/>
          <p:cNvSpPr/>
          <p:nvPr/>
        </p:nvSpPr>
        <p:spPr>
          <a:xfrm>
            <a:off x="966240" y="509004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组态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1306440" y="6462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七、报警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1492560" y="150876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报警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533520" y="312300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自定义报警。自定义报警是用户组态的报警，用来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上显示过程状态，自定义报警分离散量报警和模拟量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系统报警。系统报警用来显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特定的系统状态，是在这些设备中预先定义的。系统报警向操作员提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操作状态，内容可能包括从注意事项到严重错误。如果在两台设备中的通信出现了某种问题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触发系统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两种类型的系统报警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触发的系统报警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触发的系统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1384560" y="82296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离散量报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04920" y="169164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字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可以组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离散量报警。离散量报警用指定的字变量内的某一位来触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项目视图中单击“离散量报警”，在报警表中组态一个离散量报警，如图所示。由变量“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触发该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685800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457200" y="1599120"/>
            <a:ext cx="8001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警类型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错误。用于离散量报警和模拟量报警，指示紧急的或危险的操作和过程状态，这类报警必须确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诊断事件。用于离散量和模拟量报警，指示常规操作状态，过程状态和过程顺序，这类报警不需要确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警告。用于离散量和模拟量报警，指示不是太紧急的或危险的操作和过程状态，这类报警必须确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系统。用于系统报警，提示操作员有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状态的信息。这类报警不能用于自定义的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1132920" y="822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模拟量报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609480" y="1599120"/>
            <a:ext cx="792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项目视图中单击“模拟量报警”，在报警表中组态一个模拟量报警，如图所示。当变量“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产生报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391160" cy="22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1539000" y="82296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报警视图的组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533520" y="1416600"/>
            <a:ext cx="807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警视图用于显示当前出现的报警。在工具视图的简单对象中，单击“报警视图”，然后在画面中组态报警视图，如图所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809880" cy="29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54120" y="728640"/>
            <a:ext cx="17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O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域组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09480" y="17514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O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域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输入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简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简称，输入域与输出域统称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分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种模式，分别为输出域、输入域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9133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O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域组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整型变量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字符变量，在画面中建立三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，三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的模式分别定义为“输入”、“输出”和“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”，过程变量分别与以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变量连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组态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1458720" y="838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二、按钮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533520" y="161496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最主要的功能是在单击它时执行事先组态好的系统函数，使用按钮可以完成很多任务。在按钮的属性视图的“常规”对话框中，可以设置按钮的模式为“文本”、“图形”或“不可见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380880" y="9896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、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态一个画面，如图所示，画面中组态两个按钮和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，当按下“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的数值就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当按下“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的数值就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352680" cy="25290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/>
          <p:cNvSpPr/>
          <p:nvPr/>
        </p:nvSpPr>
        <p:spPr>
          <a:xfrm>
            <a:off x="1308600" y="50281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2378880" y="760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三、文本列表和图形列表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57200" y="167544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态如图所示的画面，要求当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写入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在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自动显示“中国”，在图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显示中国国旗。当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写入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在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自动显示“美国”，在图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显示美国国旗。当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写入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在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自动显示“法国”，在图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显示法国国旗。另外也可在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也可选择中国、美国和法国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的数值与图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的国旗能跟着相应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5257800" y="4495680"/>
            <a:ext cx="24382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1382760" y="684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四、动画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151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22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2282760"/>
            <a:ext cx="360" cy="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457200" y="137052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象的动画组态包括外观、对角线移动、水平移动、垂直移动、直接移动和可见性组态。下面以水平移动为例对对角进行水平移动组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147120" y="2088360"/>
            <a:ext cx="221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所示，组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矩形块，让其实现从左到右和循环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4"/>
          <p:cNvSpPr/>
          <p:nvPr/>
        </p:nvSpPr>
        <p:spPr>
          <a:xfrm>
            <a:off x="1689120" y="760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五、变量指针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609480" y="18277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态如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-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画面，在画面中可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分别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水箱的液位。通过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来选择哪一个水箱液位，如符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域中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水箱液位，则在下面显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水箱的液位值，并指出指针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200400" cy="223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7"/>
          <p:cNvSpPr/>
          <p:nvPr/>
        </p:nvSpPr>
        <p:spPr>
          <a:xfrm>
            <a:off x="1158120" y="42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、组态过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689120" y="6462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六、运行脚本组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533520" y="182772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了预定义的系统函数，用于常规的组态任务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Basic Scri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脚本功能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称为运行脚本，实际上就是用户自定义的函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来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需要附加功能时创建脚本。运行脚本具有编程接口，可以在运行时访问部分项目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457200" y="426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270/TP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以上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标准版才有脚本功能。使用运行脚本允许灵活地实现组态，如果在运行时需要额外的功能，可以创建运行脚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3-17T01:23:14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